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257-46D5-4B63-8647-1F1B3207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540-7343-416A-8898-C1A42116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758-AC64-4E06-96C0-D13A24FA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BE5-D37F-4D45-BAF9-60012D99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E85-C89F-4FE7-8420-74B87858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1C8-1B81-482D-ACEA-F260BF04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51A-78C0-4582-BA6B-8860A1E4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6C2-0DAA-45EF-85D5-498B6848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DD2-5972-482D-A8F5-260175BD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D07-9437-4C6B-B07E-A070832B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09A-5BAA-4D20-801C-36E4B8F9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B10B-0166-428F-B689-E84567FD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321B-23B0-4195-BF4A-1042096D8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epauw.edu/photos/PhotoDB_Repository/2007/8/Barack%2520Obama%2520Capitol.jpg&amp;imgrefurl=http://motherspirit1.blogspot.com/2008/06/obama-clinches-democratic-nomination.html&amp;h=1000&amp;w=800&amp;sz=188&amp;hl=en&amp;start=20&amp;um=1&amp;tbnid=Kk2YHg2QDSqz6M:&amp;tbnh=149&amp;tbnw=119&amp;prev=/images%3Fq%3Dobama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ibabuzz.com/politics/wp-content/uploads/2007/03/mccain.jpg&amp;imgrefurl=http://www.ibabuzz.com/politics/2008/02/07/john-mccains-speech-to-cpac/&amp;h=4992&amp;w=3328&amp;sz=4495&amp;hl=en&amp;start=3&amp;um=1&amp;tbnid=zQd8yVcgf4qYZM:&amp;tbnh=150&amp;tbnw=100&amp;prev=/images%3Fq%3DMccain%26um%3D1%26hl%3De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1371240"/>
            <a:ext cx="4724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 do you want to be President?</a:t>
            </a:r>
            <a:br>
              <a:rPr sz="36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ial Ele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362320"/>
            <a:ext cx="121788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2362320"/>
            <a:ext cx="101592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4120" y="2438280"/>
            <a:ext cx="13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c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6160" y="2438280"/>
            <a:ext cx="131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C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bl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fore You Decide Maybe You Should Find Out More About the President’s Jo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leader of one of the world’s most powerful countries, the presid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military as commander in chief of the arme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otiate treaties, or agreements with oth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int Supreme Court justices and other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 new laws and signs them into legislation when Congress passes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veto bill that Congress p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ints ambassadors to other countries and sets foreign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decide how much money the government will spend each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ints the heads of, and helps run, the government’s many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1371240"/>
            <a:ext cx="4724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2360" y="685800"/>
            <a:ext cx="693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do we el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President of the United St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552760" cy="2271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05120" y="4876920"/>
            <a:ext cx="53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a process known as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orial Colle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1371240"/>
            <a:ext cx="4724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es one have to do to become President?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1419120" cy="1162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3600" y="3352680"/>
            <a:ext cx="2743200" cy="183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2133720" cy="185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99440" y="426708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for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 Before You Vo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race yourself with the power an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bout our past presidents, what it takes to become president or stories about those who would like to be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Read All About I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304920"/>
            <a:ext cx="1182600" cy="1576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266840" cy="1689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95280" y="5430960"/>
            <a:ext cx="1069920" cy="1427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05720" y="5254560"/>
            <a:ext cx="1203120" cy="1603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57200" y="3276720"/>
            <a:ext cx="14288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Presentation Has Been Brought to You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y Those with the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Those Who Rea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graphs were taken from the following books and used for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n’t Know Much About the Presid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Kenneth C. Davis and Illustrated by Pedro Martin, Harper Collins Publishers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ace for Presi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Kelly DiPucchio and Illustrated by LeUyen Pham, Hyperion Books for Children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uck for Presi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Doreen Cronin and Illustrated by Betsy Lewin, Atheneum Books for Young Readers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 You Want to Be President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Judith St. George and Illustrated by David Small, Philomel Books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History of the American Presid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John Bowman, World Publications Group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1:18:38Z</dcterms:created>
  <dc:creator>Stephanie Sproul</dc:creator>
  <dc:description/>
  <dc:language>en-US</dc:language>
  <cp:lastModifiedBy>Stephanie Sproul</cp:lastModifiedBy>
  <dcterms:modified xsi:type="dcterms:W3CDTF">2008-07-21T19:33:26Z</dcterms:modified>
  <cp:revision>5</cp:revision>
  <dc:subject/>
  <dc:title>Congratulations!    GES Class   of 2008</dc:title>
</cp:coreProperties>
</file>